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CA5-1A34-4AE3-97E3-DD96E16B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04E-38A8-47CA-972C-7AF5E2EC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1A7-978A-461C-A028-15440779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035-9187-4C2E-9EB9-329DA433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37F-1515-4D56-B6F7-C0EBBDEC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280-E2DD-4271-8AD1-440F8523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EFB-4D66-496A-8D25-395DF869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AD3-AD37-46D9-A4C9-DFB2109B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F03-3986-4BD5-8FDB-13898BF1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EA4-D881-446D-93E8-2382984C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E10-6677-44A9-B566-C4FB6E09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021-F239-4D9B-A0AA-EC130392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F171-2F29-4F36-9ACC-A5F2BDF2B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12:20Z</dcterms:created>
  <dc:creator>abeason</dc:creator>
  <dc:description/>
  <dc:language>en-US</dc:language>
  <cp:lastModifiedBy>abeason</cp:lastModifiedBy>
  <dcterms:modified xsi:type="dcterms:W3CDTF">2008-11-14T18:12:23Z</dcterms:modified>
  <cp:revision>1</cp:revision>
  <dc:subject/>
  <dc:title>Slide 1</dc:title>
</cp:coreProperties>
</file>